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059B-8F53-4617-90AE-8A8D9B54CD9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5A2-D26A-4D83-93BA-2BA8FEDF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554-EE95-47D8-8747-F8C097AC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C92-0CE8-4DD4-83DB-BC3D2788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3C4A-16BE-4CD6-8699-BAA02313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1A0-C08E-4D30-81BD-2491A3A0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D29B-F085-479D-B0A9-97CF4FB4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987-068B-49AD-95FA-55B67974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37E-8EB7-42F7-93DE-63D80B7B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F95-4A51-4DCD-B124-9B2C3E41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F48-BD4B-4005-9AB0-934A34E0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93E-5A44-4B6E-82CE-310F0DDA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5C02-82FC-44E8-B37C-97A43856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9385-5751-434A-869C-39D43B4FDF7E}" type="datetime3">
              <a:rPr b="0" lang="en-US" sz="1400" spc="-1" strike="noStrike">
                <a:solidFill>
                  <a:srgbClr val="ffffff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1640" y="6381360"/>
            <a:ext cx="490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Rosemary Horton Trinity Colle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Arial"/>
              </a:rPr>
              <a:t>horton.rosemary@trinity.wa.edu.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16720" y="6244920"/>
            <a:ext cx="82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AA9D-364C-40EA-8C48-09445AF02FE6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rinity.wa.edu.au/plduffyrc/subjects/english/fant/default.htm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rinity.wa.edu.au/plduffyrc/library/review.htm" TargetMode="External"/><Relationship Id="rId3" Type="http://schemas.openxmlformats.org/officeDocument/2006/relationships/hyperlink" Target="http://www.trinity.wa.edu.au/plduffyrc/subjects/english/aust/austfiction.htm" TargetMode="External"/><Relationship Id="rId4" Type="http://schemas.openxmlformats.org/officeDocument/2006/relationships/hyperlink" Target="http://www.trinity.wa.edu.au/plduffyrc/subjects/english/fant/default.htm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rinity.wa.edu.au/plduffyrc/teaching/boyread.htm" TargetMode="External"/><Relationship Id="rId3" Type="http://schemas.openxmlformats.org/officeDocument/2006/relationships/hyperlink" Target="http://www.trinity.wa.edu.au/plduffyrc/teaching/bksboys.htm" TargetMode="External"/><Relationship Id="rId4" Type="http://schemas.openxmlformats.org/officeDocument/2006/relationships/hyperlink" Target="http://www.trinity.wa.edu.au/plduffyrc/teaching/boys.htm" TargetMode="External"/><Relationship Id="rId5" Type="http://schemas.openxmlformats.org/officeDocument/2006/relationships/hyperlink" Target="http://library.trinity.wa.edu.au/library/review.h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384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oys are People To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ys and Reading, Truth and Misconcep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71640" y="260280"/>
            <a:ext cx="3552840" cy="2665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on: Promote Role Mod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ecognise the critical role of the trusted adult mediato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esent male, book-positive role models incl fathers and teachers sharing reading for plea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involve parents by compiling a good book list for them to buy from or developing a ‘take-home’ reading program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eachers talk about their process as a reader – eg. how they choose and read 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00720" y="2349360"/>
            <a:ext cx="43192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on: Attitu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llow time for ‘free’ re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validate personal choice ; allow in reading related activities in the curriculu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reduce the emphasis on the study of texts and extensive written responses and increase time for reading for pleasure and for discussion and ‘booktalk’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nsure that the roles of print-based texts and electronic materials are regarded as complementary and of equal import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mote Peer Inp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e reading peer groups – so that students can enthuse each oth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fads, popular music, films with boo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reading a social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ction: Literac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aloud to students – injecting drama, being a mediator between the book and the stud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electronic media and attractive, accessible Websites to promote reading and involve in book- and reading-related activities. Australian Fiction;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Fantasy Reading Online Ques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ike a balance between reading enjoyment and reading skill. An excessive emphasis on the technical may discourage some readers. For some students, a primary concern with grammar and phonics can result in the story being lo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gage in ‘critical literacy’ by challenging limited male stereotypes –showing students that books are not gender neutral – rather, they actively construct ge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77868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we do at Trin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2852280"/>
            <a:ext cx="80758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buy books, lots of books of all kinds – fiction collection doubled in last 4 years Books and Authors for Boy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listen to sugges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run a book club with Mercedes girls and Dymock’s consult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book reviews by staff members </a:t>
            </a:r>
            <a:r>
              <a:rPr b="0" lang="en-AU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Personal Book Reviews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promote waybra and cbc aw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encourage use of ict and reading </a:t>
            </a:r>
            <a:r>
              <a:rPr b="0" lang="en-AU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Australian Fiction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AU" sz="20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Fantasy Reading Online Quest</a:t>
            </a: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76360" y="1052640"/>
          <a:ext cx="6048360" cy="187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1052640"/>
                    <a:ext cx="60483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rther investig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Boys, Literacy and Reading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Books and Authors for Boy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iteracy Across The Curriculu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Boys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Personal Book Reviews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(by staf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Australian Fi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Fantasy Reading Online Que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ear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03360" y="1905120"/>
          <a:ext cx="194472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3360" y="1905120"/>
                    <a:ext cx="19447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2205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85264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1341360"/>
            <a:ext cx="252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404640"/>
            <a:ext cx="38876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jority 69% boys/ 80%  girls actually enjoy reading to some ex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3% boys/48% girls read every few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1% boys reading is boring /45% ner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ing for pleasure drops primary to secondary 45% to 2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6% boys &amp; girls would read more if they had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45370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terac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4105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4 % of boys, / 26 % girls lack basic literacy skill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sier reading is considered to be, the more enjoyable the reading experie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3% of boys do not associate reading for pleasure as being ea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ys who don’t read  estimate their reading speed to be slower than that of their peer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990880" cy="198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72000" y="1268280"/>
            <a:ext cx="4248000" cy="32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mily and frien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4103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ng people who read every d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likely to have a father who reads at least sometime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other who reads all the time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blings  and friends who rea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ts of books to read at h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27640" y="177336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00720" y="119664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iggest difference  between readers and non-readers appears in the proportion who have friends who r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ends are the main source of advice of books to re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boys don’t see men around them read or value re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404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333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riends and Role Mode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41367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teracy Boys Enjo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ys have a strong interest in electronic and graphic forms of literate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ys are willing to ‘do’ literacy in active, public ways (such as debating, drama, public speak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ys are eager to engage with ‘real-life’ literacy contexts and ‘real life’ literacy practi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1767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ag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3960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-ve identification with reading is associated with +ve identification with perceived masculine activities and qua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home and school see reading as an interest more appropriate for girls than for bo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fathers often identify themselves as non-rea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oys are more likely to see it as boring and a bit nerd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797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2920" y="907560"/>
            <a:ext cx="4249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boys' imaginations are being captured by sport or computers; but 'real men don't read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reading 30%; tv 38% internet 31% computer games 2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older boys who had lost interest in reading – do not see it as a bad thing, but was no longer of intere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65% boys reading is irrelev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333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e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5007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 Judge a Book by its Co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392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male friendly policies and materials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u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courage books that expand students’ versions of masculin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&gt; quantity &amp; range of recreational read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ct books appeal to students – not books that adults read as youngsters or award winning 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e locations, age, appearance (covers), display and presentation of 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2349360"/>
            <a:ext cx="403848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1:42:48Z</dcterms:created>
  <dc:creator>horton.rosemary</dc:creator>
  <dc:description/>
  <dc:language>en-US</dc:language>
  <cp:lastModifiedBy>chrisk</cp:lastModifiedBy>
  <dcterms:modified xsi:type="dcterms:W3CDTF">2010-08-09T23:52:13Z</dcterms:modified>
  <cp:revision>55</cp:revision>
  <dc:subject/>
  <dc:title>  Boys are People Too</dc:title>
</cp:coreProperties>
</file>